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227-7C06-4311-899C-B54A92A2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AF0-068C-4B3C-93FA-D5CB2933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078-5C79-47D3-A21F-33CBDD15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49B-A5EE-4D6B-904D-AD50BCC1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6680-0C49-4B93-AFFA-2973495C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C7D6-11BA-445E-8FBF-118A6AA1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BB36-A41B-4198-B878-648C798B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854E-F73F-46E2-97F7-360BADDE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FBE2-0B23-4437-9457-DF62EC44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8B15-C51F-4947-AE92-CFA7C252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6A21-B08A-4FE2-83EE-2612000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5D4-DCE8-4271-962F-2510DCA9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9F96-8F5D-4AF5-B246-C3708D17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F20B-91FE-48CB-A33B-3B05E1A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282D-7AEF-4779-9D50-3135B5F1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0D3D-ECC4-435F-9B7A-A0548F4A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B97D-59B2-40AB-8F06-F31DB605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997-7224-44E3-967A-B17D05C8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9D9-7BF0-47AF-A605-F5140EF4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1E6-5043-4FAF-98BB-A9E54CC3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689-A5D4-4488-A8C0-A5D3FC2A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71F-62A3-4F94-BFC9-39F57977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195-E3D8-4C69-948C-7A769A8C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B29-E02A-4AD7-A553-E5CA7764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182880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2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4"/>
            <p:cNvPicPr/>
            <p:nvPr/>
          </p:nvPicPr>
          <p:blipFill>
            <a:blip r:embed="rId5"/>
            <a:stretch/>
          </p:blipFill>
          <p:spPr>
            <a:xfrm>
              <a:off x="810108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Picture 8" descr="ti"/>
          <p:cNvPicPr/>
          <p:nvPr/>
        </p:nvPicPr>
        <p:blipFill>
          <a:blip r:embed="rId7"/>
          <a:stretch/>
        </p:blipFill>
        <p:spPr>
          <a:xfrm>
            <a:off x="1066680" y="1219320"/>
            <a:ext cx="7010640" cy="87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1FEF-4169-4A88-B6E5-32F8748AFE0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4960" y="175248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2"/>
            <p:cNvPicPr/>
            <p:nvPr/>
          </p:nvPicPr>
          <p:blipFill>
            <a:blip r:embed="rId4"/>
            <a:stretch/>
          </p:blipFill>
          <p:spPr>
            <a:xfrm>
              <a:off x="802656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4"/>
            <p:cNvPicPr/>
            <p:nvPr/>
          </p:nvPicPr>
          <p:blipFill>
            <a:blip r:embed="rId5"/>
            <a:stretch/>
          </p:blipFill>
          <p:spPr>
            <a:xfrm>
              <a:off x="8026560" y="571500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63868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8" descr="ti"/>
          <p:cNvPicPr/>
          <p:nvPr/>
        </p:nvPicPr>
        <p:blipFill>
          <a:blip r:embed="rId7"/>
          <a:stretch/>
        </p:blipFill>
        <p:spPr>
          <a:xfrm>
            <a:off x="762120" y="2743200"/>
            <a:ext cx="7696080" cy="1020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33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5C0D-EB31-41FE-8016-7C94A96D2F6B}" type="slidenum">
              <a:rPr b="0" lang="en-US" sz="1200" spc="-1" strike="noStrike">
                <a:solidFill>
                  <a:srgbClr val="666633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kkang@lignex1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LIG</a:t>
            </a:r>
            <a:r>
              <a:rPr b="1" lang="ko-KR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넥스원 채용설명회 및 채용면담</a:t>
            </a:r>
            <a:endParaRPr b="0" lang="en-US" sz="36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214308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LIG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넥스원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2008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년 하반기 신입사원 공채와 관련하여 채용설명회 및 채용면담 일정을 아래와 같이 안내하오니 관심있는 학생분들의 많은 참석 바랍니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면담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5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수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~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0:00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~ 17:0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설명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6:00 ~ 17:3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장  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해림홀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정보통신공학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B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동 공동강의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모집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연구개발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R&amp;D)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품질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생산기술 등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공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자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컴퓨터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기계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산업공학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문  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서울 송지혜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2-2033-0573 / jhsongc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용인 강준구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31-288-9186 /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맑은 고딕"/>
                <a:ea typeface="맑은 고딕"/>
                <a:hlinkClick r:id="rId1"/>
              </a:rPr>
              <a:t>jkkang@lignex1.com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구미 박기철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54-469-8158 / kcpark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04:55:39Z</dcterms:created>
  <dc:creator>MAT</dc:creator>
  <dc:description/>
  <dc:language>en-US</dc:language>
  <cp:lastModifiedBy>김수연</cp:lastModifiedBy>
  <cp:lastPrinted>1999-10-01T05:06:01Z</cp:lastPrinted>
  <dcterms:modified xsi:type="dcterms:W3CDTF">2008-10-01T01:55:19Z</dcterms:modified>
  <cp:revision>139</cp:revision>
  <dc:subject/>
  <dc:title>슬라이드 제목 없음</dc:title>
</cp:coreProperties>
</file>