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37880" y="744120"/>
            <a:ext cx="2792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D5BC-D4C8-4209-B6C2-0E76571EB43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0F22-FE49-4081-A696-7C3D1C6A97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976400" y="768240"/>
            <a:ext cx="2757600" cy="367668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5840" y="4754520"/>
            <a:ext cx="488160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748B-FF59-4C79-AA84-5326EDD1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D49-4E40-4224-9788-5D8BA430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632-DE52-4DFF-9E82-B0DF5C63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398-259F-4F58-956E-3784E5D6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13A-4017-4C62-A74C-976B968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B2D-E440-4595-8767-48A94F41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B95-E146-4DAD-AE8C-7C3DB67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81F-492B-45A3-825A-5B553F5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BFB-58C7-4B39-BACE-E42E045B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848-73D8-406B-AF19-B7568216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0C50-F8E7-4D9C-8BA4-25377BC2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6E5-6790-4DD8-B3E7-2379C33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E087-3D84-41CF-BC1F-A84CD16A4A4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인감"/>
          <p:cNvPicPr/>
          <p:nvPr/>
        </p:nvPicPr>
        <p:blipFill>
          <a:blip r:embed="rId1"/>
          <a:stretch/>
        </p:blipFill>
        <p:spPr>
          <a:xfrm>
            <a:off x="5934240" y="8555040"/>
            <a:ext cx="419040" cy="417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14440" y="939960"/>
            <a:ext cx="5976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문서번호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HR08-60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호                                                               </a:t>
            </a:r>
            <a:r>
              <a:rPr b="1" lang="en-US" sz="1100" spc="-1" strike="noStrike">
                <a:solidFill>
                  <a:srgbClr val="ff3300"/>
                </a:solidFill>
                <a:latin typeface="돋움"/>
                <a:ea typeface="돋움"/>
              </a:rPr>
              <a:t>`08.09.29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수      신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광주과학기술원 총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참      조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취업지원센터 장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      목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: LIG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넥스원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- 2008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년 하반기 대졸 신입 및 경력사원 모집안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11280" y="5349960"/>
            <a:ext cx="595476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설명회 및 채용면담 실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ts val="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모집요강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☞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별첨자료 참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바탕체"/>
              </a:rPr>
              <a:t>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.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원서접수 및 방법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기   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’08.10.06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~ ’08.10.21(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화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) 17: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방   법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온라인접수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Homepage(www.lignex1.com)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『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채용 →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Online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지원 → 공개채용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』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-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문의전화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서울 송지혜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hsongc@lignex1.com) /  02-2033-0573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용인 강준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jkkang@lignex1.com) /  031-288-918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구미 박기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(kcpark@lignex1.com) /  054-469-815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818080" y="4921200"/>
            <a:ext cx="111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다             음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31920" y="2147760"/>
            <a:ext cx="6367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귀교의 무궁한 발전을 기원합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는 자주국방 실현을 위해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976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금정정밀로 출발하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정밀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노텍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넥스원퓨쳐㈜를 거쳐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동안 오로지 자주국방을 위해 모든 역량과 능력을 집중해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온 국내 최고의 방위산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’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에서 분리하였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  <a:ea typeface="돋움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07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년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월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일부로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넥스원㈜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로 사명을 변경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현재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IG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그룹의 관계사인 방위산업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전문업체입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당사에서는 유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수중장비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레이더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통신장비 및 정보전자전 장비 등의 방위산업용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첨단  전자장비를 개발하고 있으며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세계적 수준의 초고주파 핵심기술을 바탕으로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핵심사업을 이끌어 갈 우수한 인재를 확보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육성해 나가고 있습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이에 당사에서는 </a:t>
            </a:r>
            <a:r>
              <a:rPr b="1" lang="en-US" sz="1000" spc="-1" strike="noStrike">
                <a:solidFill>
                  <a:srgbClr val="3333ff"/>
                </a:solidFill>
                <a:latin typeface="돋움"/>
                <a:ea typeface="돋움"/>
              </a:rPr>
              <a:t>2008</a:t>
            </a:r>
            <a:r>
              <a:rPr b="1" lang="ko-KR" sz="1000" spc="-1" strike="noStrike">
                <a:solidFill>
                  <a:srgbClr val="3333ff"/>
                </a:solidFill>
                <a:latin typeface="돋움"/>
                <a:ea typeface="돋움"/>
              </a:rPr>
              <a:t>년 대졸 신입 및 경력사원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을 선발하고자 하오니 적극적인 협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      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부탁드립니다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797840" y="351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서울시 강남구 역삼동 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838</a:t>
            </a:r>
            <a:r>
              <a:rPr b="0" lang="ko-KR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번지 푸르덴셜타워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  <a:ea typeface="돋움"/>
              </a:rPr>
              <a:t>Tel : 02-2033-0573    Fax : 02-2033-061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321080" y="8302680"/>
            <a:ext cx="2838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LIG </a:t>
            </a: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넥스원주식회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돋움체"/>
                <a:ea typeface="돋움체"/>
              </a:rPr>
              <a:t>대표이사  이 효 구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33520" y="20509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Line 9"/>
          <p:cNvSpPr/>
          <p:nvPr/>
        </p:nvSpPr>
        <p:spPr>
          <a:xfrm>
            <a:off x="533520" y="2097000"/>
            <a:ext cx="5790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33520" y="895320"/>
            <a:ext cx="579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" name="Picture 11" descr="LIG넥스원"/>
          <p:cNvPicPr/>
          <p:nvPr/>
        </p:nvPicPr>
        <p:blipFill>
          <a:blip r:embed="rId2"/>
          <a:stretch/>
        </p:blipFill>
        <p:spPr>
          <a:xfrm>
            <a:off x="257040" y="117360"/>
            <a:ext cx="140040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58960" y="5610240"/>
          <a:ext cx="5449680" cy="762120"/>
        </p:xfrm>
        <a:graphic>
          <a:graphicData uri="http://schemas.openxmlformats.org/drawingml/2006/table">
            <a:tbl>
              <a:tblPr/>
              <a:tblGrid>
                <a:gridCol w="858600"/>
                <a:gridCol w="2502000"/>
                <a:gridCol w="2089080"/>
              </a:tblGrid>
              <a:tr h="29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설명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6:00~17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채용면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200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년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월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15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~16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돋움"/>
                        </a:rPr>
                        <a:t>) 10:00~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해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Hal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0:22:46Z</dcterms:created>
  <dc:creator>70399</dc:creator>
  <dc:description/>
  <dc:language>en-US</dc:language>
  <cp:lastModifiedBy>김수연</cp:lastModifiedBy>
  <dcterms:modified xsi:type="dcterms:W3CDTF">2008-10-01T00:57:53Z</dcterms:modified>
  <cp:revision>42</cp:revision>
  <dc:subject/>
  <dc:title>슬라이드 1</dc:title>
</cp:coreProperties>
</file>