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AD0-3E01-4A53-9A6B-D28B35F5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5C8-575A-4946-ADA2-ACE85F3D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BC0-BDCB-487E-A252-6AAD4B9E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248-A99D-4DCB-85E6-7EC3267B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840A-52FC-430D-B669-078A7206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A4BA-1E32-40CA-B302-4EB2CC39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C99E-9392-4A73-A1C1-C2E0C5DD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0140-DB47-4618-AE33-35E4B35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6EBC-46AC-489C-9CEC-173C64C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5FF-163C-40C6-9C2C-8B19D556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B787-5674-43FB-B531-31ED6DE2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481-B5A9-4DEE-94DD-18E8211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F37A-AF3D-40CD-8831-0E934E3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1A5-27FA-4C2C-8438-6E4A199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739-CDCF-4085-A72A-EEAD5C50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ECA-9D7C-418A-9469-C802BFEB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70C1-6ED9-4784-8CA4-42B16E69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081-9DAE-43E1-B735-539E857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AAF-B7DB-47A2-BC5B-57510ECE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607B-B611-44E7-BEE9-5052F5E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156-F902-45A6-9B5A-6871DB5B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383-9D90-438F-A84B-3103BE4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EFA-9A63-4C5D-8374-3832C212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2E0-D6AD-42C8-AA7E-39B46D9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182880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2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4"/>
            <p:cNvPicPr/>
            <p:nvPr/>
          </p:nvPicPr>
          <p:blipFill>
            <a:blip r:embed="rId5"/>
            <a:stretch/>
          </p:blipFill>
          <p:spPr>
            <a:xfrm>
              <a:off x="810108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791320"/>
              <a:ext cx="104292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Picture 8" descr="ti"/>
          <p:cNvPicPr/>
          <p:nvPr/>
        </p:nvPicPr>
        <p:blipFill>
          <a:blip r:embed="rId7"/>
          <a:stretch/>
        </p:blipFill>
        <p:spPr>
          <a:xfrm>
            <a:off x="1066680" y="1219320"/>
            <a:ext cx="7010640" cy="8744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229-10FE-488B-8857-BA825C9AC1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4960" y="1752480"/>
            <a:ext cx="8075520" cy="4343400"/>
          </a:xfrm>
          <a:prstGeom prst="rect">
            <a:avLst/>
          </a:prstGeom>
          <a:solidFill>
            <a:srgbClr val="fdfce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2"/>
            <p:cNvPicPr/>
            <p:nvPr/>
          </p:nvPicPr>
          <p:blipFill>
            <a:blip r:embed="rId4"/>
            <a:stretch/>
          </p:blipFill>
          <p:spPr>
            <a:xfrm>
              <a:off x="8026560" y="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4"/>
            <p:cNvPicPr/>
            <p:nvPr/>
          </p:nvPicPr>
          <p:blipFill>
            <a:blip r:embed="rId5"/>
            <a:stretch/>
          </p:blipFill>
          <p:spPr>
            <a:xfrm>
              <a:off x="8026560" y="5715000"/>
              <a:ext cx="1117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3"/>
            <p:cNvPicPr/>
            <p:nvPr/>
          </p:nvPicPr>
          <p:blipFill>
            <a:blip r:embed="rId6"/>
            <a:stretch/>
          </p:blipFill>
          <p:spPr>
            <a:xfrm>
              <a:off x="0" y="563868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8" descr="ti"/>
          <p:cNvPicPr/>
          <p:nvPr/>
        </p:nvPicPr>
        <p:blipFill>
          <a:blip r:embed="rId7"/>
          <a:stretch/>
        </p:blipFill>
        <p:spPr>
          <a:xfrm>
            <a:off x="762120" y="2743200"/>
            <a:ext cx="7696080" cy="1020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00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666633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33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33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C9D2-3465-46F8-B513-433454ED1A37}" type="slidenum">
              <a:rPr b="0" lang="en-US" sz="1200" spc="-1" strike="noStrike">
                <a:solidFill>
                  <a:srgbClr val="666633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kkang@lignex1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LIG</a:t>
            </a:r>
            <a:r>
              <a:rPr b="1" lang="ko-KR" sz="3600" spc="-1" strike="noStrike">
                <a:solidFill>
                  <a:srgbClr val="336600"/>
                </a:solidFill>
                <a:latin typeface="맑은 고딕"/>
                <a:ea typeface="맑은 고딕"/>
              </a:rPr>
              <a:t>넥스원 채용설명회 및 채용면담</a:t>
            </a:r>
            <a:endParaRPr b="0" lang="en-US" sz="3600" spc="-1" strike="noStrike">
              <a:solidFill>
                <a:srgbClr val="33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14308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LIG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넥스원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2008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년 하반기 신입사원 공채와 관련하여 채용설명회 및 채용면담 일정을 아래와 같이 안내하오니 관심있는 학생분들의 많은 참석 바랍니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면담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5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수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~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0:00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~ 17:0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채용설명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2008. 10. 16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목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 16:00 ~ 17:30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장  소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해림홀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정보통신공학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B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동 공동강의실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모집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연구개발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R&amp;D)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품질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생산기술 등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공분야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전자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컴퓨터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기계공학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산업공학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문  의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서울 송지혜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2-2033-0573 / jhsongc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용인 강준구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31-288-9186 / </a:t>
            </a:r>
            <a:r>
              <a:rPr b="0" lang="en-US" sz="2000" spc="-1" strike="noStrike" u="sng">
                <a:solidFill>
                  <a:srgbClr val="00cc00"/>
                </a:solidFill>
                <a:uFillTx/>
                <a:latin typeface="맑은 고딕"/>
                <a:ea typeface="맑은 고딕"/>
                <a:hlinkClick r:id="rId1"/>
              </a:rPr>
              <a:t>jkkang@lignex1.com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               </a:t>
            </a:r>
            <a:r>
              <a:rPr b="0" lang="ko-KR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구미 박기철 </a:t>
            </a:r>
            <a:r>
              <a:rPr b="0" lang="en-US" sz="2000" spc="-1" strike="noStrike">
                <a:solidFill>
                  <a:srgbClr val="666633"/>
                </a:solidFill>
                <a:latin typeface="맑은 고딕"/>
                <a:ea typeface="맑은 고딕"/>
              </a:rPr>
              <a:t>(054-469-8158 / kcpark@lignex1.com)</a:t>
            </a:r>
            <a:endParaRPr b="0" lang="en-US" sz="2000" spc="-1" strike="noStrike">
              <a:solidFill>
                <a:srgbClr val="666633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04:55:39Z</dcterms:created>
  <dc:creator>MAT</dc:creator>
  <dc:description/>
  <dc:language>en-US</dc:language>
  <cp:lastModifiedBy>김수연</cp:lastModifiedBy>
  <cp:lastPrinted>1999-10-01T05:06:01Z</cp:lastPrinted>
  <dcterms:modified xsi:type="dcterms:W3CDTF">2008-10-01T01:55:19Z</dcterms:modified>
  <cp:revision>139</cp:revision>
  <dc:subject/>
  <dc:title>슬라이드 제목 없음</dc:title>
</cp:coreProperties>
</file>